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113-7F03-4F88-AE0E-B20CF2AF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FB2-53C4-4A98-957F-989B443C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1B1-3053-4FCD-822B-2DFF1C77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165-3151-4492-8B5D-EADD8A62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D502-DB15-4807-983D-57594223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28E5-E337-45B8-8EE5-AE7E7E86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F3BC-31A7-44EF-B059-0A5EC70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B669-BA43-4FB0-8CBB-3489FC4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C5C0-0843-46C0-A7E9-29EAF4B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D2B-04FF-4FE4-9E6C-60544C0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E9A-8404-4733-912C-3634896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BE8-7C16-4204-8F4E-7A473022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B599-D607-482D-AE45-90A5FD6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B94C-E093-4C96-8085-019796B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DC5-CB4F-409B-9284-1E52BCBE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A89C-F9F8-4205-8B20-C8C79212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15A8-4C22-4240-A79D-21CF04B9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A3E-7023-4DD3-A17D-B901A49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0A1-FE58-4E5D-8AD8-469AB27C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830-972B-4B0D-908A-056C349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B17-7144-419E-8CD8-CA965C2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05D-5F06-4CC1-91D8-E54EE6C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DAE-A1E6-4DF5-B4BC-BD7F2E82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251-C9CC-43BA-BC70-765F02E5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7BB4-BD43-4230-8024-8CD9E2C3AA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C94-3BDD-4732-BD98-D7FCB2DA0C4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Dimensions of the Olympic stadium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1547640" y="3068640"/>
            <a:ext cx="2592720" cy="2592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6084720" y="3068640"/>
            <a:ext cx="2592720" cy="2592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916360" y="3068640"/>
            <a:ext cx="4392360" cy="2592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419640" y="2708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059280" y="40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What are the calculation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e halved 70m and 90m which will give every person half a square meter when they are added to the original number and then multiplied them together to get 14,1754 which covers the 12,000 athle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90/2 +9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70/2+7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35*105=14,17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35*    2= 354.436154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pi"/>
          <p:cNvPicPr/>
          <p:nvPr/>
        </p:nvPicPr>
        <p:blipFill>
          <a:blip r:embed="rId6"/>
          <a:stretch/>
        </p:blipFill>
        <p:spPr>
          <a:xfrm>
            <a:off x="1763640" y="5589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The whole capacity of the stadium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f you divide 70 by 2 you will get 35 then if you multiply that by    2 and4 you will get the capacity of the two semicircles on the ends then you add the two togeth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pi"/>
          <p:cNvPicPr/>
          <p:nvPr/>
        </p:nvPicPr>
        <p:blipFill>
          <a:blip r:embed="rId2"/>
          <a:stretch/>
        </p:blipFill>
        <p:spPr>
          <a:xfrm>
            <a:off x="6588000" y="220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40:25Z</dcterms:created>
  <dc:creator>HouseC</dc:creator>
  <dc:description/>
  <dc:language>en-US</dc:language>
  <cp:lastModifiedBy> </cp:lastModifiedBy>
  <dcterms:modified xsi:type="dcterms:W3CDTF">2010-06-12T11:53:37Z</dcterms:modified>
  <cp:revision>2</cp:revision>
  <dc:subject/>
  <dc:title>Dimensions of the Olympic stadium </dc:title>
</cp:coreProperties>
</file>